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5AD-9635-4CE3-A4C6-51259B8B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AC2-CD9A-4770-B8CC-B3FBD6C3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6CF-1E44-42BD-872A-33960453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FE2-10F4-4885-9F1A-A1EAE8F2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0DE-2055-4584-9F7C-AE1F2326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F61-D399-4570-A0F3-FDFF07E0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78F-56B5-4BF3-A6E8-9514513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E7E-D206-4A21-8866-610E60EE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26D-8077-4073-B46A-DA30D65F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B662-1703-438C-B72F-C216DE2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830-B465-4CA7-B8B1-CB6F428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482-F80B-4DFA-9513-05B65E58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0C43-C301-462A-97FE-9B2FABD01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JZdzW7Z4eIA/SdsqCJmnVjI/AAAAAAAAAH8/WWdcWQfbrE8/s1600-h/Rorschach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://img.66.ru/image/5bb1df51bfa593d8811bfebaf61875f0/47dd6289/0/44/34/443475_normal.jpg"/>
          <p:cNvPicPr/>
          <p:nvPr/>
        </p:nvPicPr>
        <p:blipFill>
          <a:blip r:embed="rId1"/>
          <a:stretch/>
        </p:blipFill>
        <p:spPr>
          <a:xfrm>
            <a:off x="-457200" y="-136440"/>
            <a:ext cx="1035360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4.bp.blogspot.com/_ybECwyo1hn8/SciLZB89nXI/AAAAAAAAAWQ/7AzFaW7N-vo/s320/bourreau.jpg"/>
          <p:cNvPicPr/>
          <p:nvPr/>
        </p:nvPicPr>
        <p:blipFill>
          <a:blip r:embed="rId1"/>
          <a:stretch/>
        </p:blipFill>
        <p:spPr>
          <a:xfrm>
            <a:off x="1600200" y="0"/>
            <a:ext cx="4952880" cy="74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1.bp.blogspot.com/_JZdzW7Z4eIA/SdsqCJmnVjI/AAAAAAAAAH8/WWdcWQfbrE8/s320/Rorscha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914400" y="0"/>
            <a:ext cx="1045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marriagerepaircenter.com/marriagerepaircenter011001.jpg"/>
          <p:cNvPicPr/>
          <p:nvPr/>
        </p:nvPicPr>
        <p:blipFill>
          <a:blip r:embed="rId1"/>
          <a:stretch/>
        </p:blipFill>
        <p:spPr>
          <a:xfrm>
            <a:off x="-549360" y="228600"/>
            <a:ext cx="9693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quondam.com/08/0749i02.jpg"/>
          <p:cNvPicPr/>
          <p:nvPr/>
        </p:nvPicPr>
        <p:blipFill>
          <a:blip r:embed="rId1"/>
          <a:stretch/>
        </p:blipFill>
        <p:spPr>
          <a:xfrm>
            <a:off x="762120" y="-152280"/>
            <a:ext cx="78310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honolulu.hawaii.edu/distance/sci122/Programs/p3/Rorschach.gif"/>
          <p:cNvPicPr/>
          <p:nvPr/>
        </p:nvPicPr>
        <p:blipFill>
          <a:blip r:embed="rId1"/>
          <a:stretch/>
        </p:blipFill>
        <p:spPr>
          <a:xfrm>
            <a:off x="1295280" y="0"/>
            <a:ext cx="60199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fred5080145.files.wordpress.com/2008/09/mo469fd.gif"/>
          <p:cNvPicPr/>
          <p:nvPr/>
        </p:nvPicPr>
        <p:blipFill>
          <a:blip r:embed="rId1"/>
          <a:stretch/>
        </p:blipFill>
        <p:spPr>
          <a:xfrm>
            <a:off x="1752480" y="-154080"/>
            <a:ext cx="5346720" cy="70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utpsyc.org/TATintro/TATlab.jpg"/>
          <p:cNvPicPr/>
          <p:nvPr/>
        </p:nvPicPr>
        <p:blipFill>
          <a:blip r:embed="rId1"/>
          <a:stretch/>
        </p:blipFill>
        <p:spPr>
          <a:xfrm>
            <a:off x="0" y="-268200"/>
            <a:ext cx="914400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fu.ca/~achanne/psychtests/TAT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sfu.ca/~achanne/psychtests/TAT08GF.jpg"/>
          <p:cNvPicPr/>
          <p:nvPr/>
        </p:nvPicPr>
        <p:blipFill>
          <a:blip r:embed="rId1"/>
          <a:stretch/>
        </p:blipFill>
        <p:spPr>
          <a:xfrm>
            <a:off x="1447920" y="-85680"/>
            <a:ext cx="56386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5:31:11Z</dcterms:created>
  <dc:creator>BHS</dc:creator>
  <dc:description/>
  <dc:language>en-US</dc:language>
  <cp:lastModifiedBy>BHS</cp:lastModifiedBy>
  <dcterms:modified xsi:type="dcterms:W3CDTF">2010-01-22T15:50:18Z</dcterms:modified>
  <cp:revision>2</cp:revision>
  <dc:subject/>
  <dc:title>Slide 1</dc:title>
</cp:coreProperties>
</file>